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F9-EB4D-497C-A2F5-55ECE287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2D8-224F-4283-A47A-73AD2C89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51DAB-C25A-4E1A-BAAE-F7B80DD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51DE0-6CC0-46C8-963C-3B4F219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4A6A-726B-4613-AA09-347BD8F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74936-551D-4594-8BE0-C45BED25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A14FA-DDD5-4919-9084-14DBF8A9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E3531-BAEC-4732-A9E7-0A2692C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E0BC7-B1DA-44CF-8E7D-12EFE6B1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CBA96-5D12-46DC-81BE-9EAF9C10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BC4E-69E9-4392-A157-552F6724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B73C-1D37-4CFF-8DE7-E7092309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CD-8ADC-42C4-AEC8-BAC28370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24900-12F6-406A-B499-79C8D1A3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88D25-643F-409F-BB53-3FFD2A54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1837F-01F4-420E-9EF4-201A07E0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FB02E-3880-40DD-B47C-E6841385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83FA8-A9A9-43B3-9737-8677FFE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7630-B0B2-47D7-9661-2C54D5A2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D8445-C48D-4328-BF68-23DEC69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10FA3-2600-4678-8DED-0335E0B1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1EAC8-86CA-47FE-9F3B-FECA227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364CF-9221-4120-B4D8-77942ACA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2A-07D6-4022-9175-A9A2F67E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D2E6E-3372-45D0-8FED-DF96805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54E99-FE40-47F7-B45E-BA4CA867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A2F39-58EF-4CAF-9FBD-52F96EF6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3325A-EE25-4EAC-8973-AA2DA117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2C5C-7543-4D3C-B213-B24E2318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4AC8B-6D9F-47FD-A08D-1CC64AE3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10AB9-7487-43F2-9FC8-13DF917C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5DC4A-EDA8-49C2-A94E-2E0ACCE0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F2DE-A86A-4246-8460-E2E1CC5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EE17-D020-4323-9583-C8DFC646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7372-7A38-48A6-8659-5F06FCC0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49CE4-B22B-4B1E-93F1-A8D2D78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2E5E-B579-43D5-B4D8-99DDCFCC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40B3-68EC-49ED-9BC2-E24BBFEF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1103C-3986-49C4-84C8-3F68F72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E0471-B1EF-44F2-910C-BF14738E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90315-472D-4C44-A897-DC27DF5D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06039-51FD-4CA3-B1E9-D81D238E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0528D-2F7D-4980-B1BA-C864D84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FB3F7-6C9D-4D46-8F7F-778B16E1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95851-3528-41A6-8AA6-1D02B10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9C07-E622-45FE-8D7F-94E46457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1CFB3-EB2A-4385-B787-2B1C74B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BAC12-444F-4CA2-BA9C-BA1BE6D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5D89F-5C6C-4648-9141-56E2B3B5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27025-37C5-4ECF-A7B2-FC34CF23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BAE33-678C-4C33-9954-91258745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624AF-AC54-4CDB-B3FB-54536BDB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9FA2D-77BD-47D0-9181-EAFEDF2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B03DA-6406-46D4-A839-ED3E0AC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BF63D-FA5B-4413-8ABB-7FF0B33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DFD39-FBFB-47E3-8396-67FA690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281-BB2C-4B25-8F8B-180F2491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9690C-DBB6-4A35-A751-E3A36FF3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2B2CF-68F0-45E5-BC87-D3372DA0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E3F26-AAA8-4CA1-AB27-F8ED98D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EF6BC-6E3E-4153-82B2-D5A5906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3F955-87BF-47F1-9C91-D8E1233E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678D2-1FCA-46FC-8B57-20660D8D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750B3-9C9E-4632-9B44-999FB0E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13232-831E-47FE-BB27-9C1C7C6A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757E5-EA39-474D-945B-DC01DA6F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E9C56-1BE7-4162-9A00-10499A1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04B-E21F-47DE-AA70-1EE60140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7FA41-B0A1-4D3D-AF4B-E2B92FE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2BBC2-450B-4818-8714-86F44FFD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07ABC-A152-4207-BDE5-F3D5233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2D565-06B4-4562-9E49-26D3702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81A1D-4196-413A-808B-9270A6BE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7DD09-E57B-47E8-AF31-0EC7EA5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4F082-1685-4706-93A8-CA8D57C0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E7608-4052-4211-9132-D9A05102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523AD-962E-44C5-A206-C0FC73B0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8DD25-1D1C-416D-8103-39FD94D6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805-AF81-46B1-B845-6403BAEC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9EC02-A0DB-4A51-847D-9FEEF24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383CE-888E-4547-B360-B8A76B2A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28AE7-6A0E-4680-A680-62B4D866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FAD222-9154-4A24-9833-BC57063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F4CB2-87EC-49B3-9BF9-BB5BF54E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5D9D5-3494-420A-9F6D-CEB423A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416E2-4C1D-4D6D-A1B0-5847E2F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8DD91-D5D7-4FC5-AB08-6CC7E2E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8CE23-FBD1-4423-B026-DEB9587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11AC3-0A6F-4D95-ABFF-D3F46EF5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937-FF10-437E-A060-78E64087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8BF3F-FA0D-44E7-93C9-0B80D1F6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233A6-3D23-4B07-A053-4AC2500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46ADC-F9D6-4B9F-A249-4B8AC52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14276-ED21-4E41-ADFD-E1F9DFD5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83523-BCC0-4728-AAB2-B9328D12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65B3BA-B749-452F-BB55-84CEC41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1E661-DA3C-4F06-B333-1CFE06C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82739-BD28-4BB6-9A93-D2193ADB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BD54D-8A62-4AED-92AF-19EFDF7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9F075-2A26-4674-B254-6AD36A9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D3F-09BE-4201-8B9A-5A406AB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1C759-EB42-4D14-BE52-3C11698A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17827-4954-42D1-AEAA-2D7A887C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598C3-6F6B-4544-A47E-4969D2DC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5EBE1-5ED4-4328-B7AE-74E2E5C6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35FCD-92FC-4134-B5E5-8CD152A3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FBB77-2210-4C3C-A3F2-C4EE3EE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107B6-C4B5-4491-812A-D7533E4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E0550B-1C23-4083-B24D-C999EA8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FB245-8C79-4090-BD74-258E94B4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08A30-5279-41F0-9011-37C3D97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BB4-4ADF-44BE-AE0D-F56799A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B50A-01D0-43B1-B6FD-7FA468B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23805-0F00-4D7F-B2A6-852C520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3A6EC-1815-4718-B61D-958BB08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5ECC3E-B24A-4019-A18F-5DB8474F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08A9C-9523-413E-949B-E9ED173C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C6393-F83C-4BA6-98F8-33918E5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EC32D-4F39-43B5-AA78-AE0AB77E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30AF7-7E76-4EBF-B996-D5295BC4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DF543-99BE-4372-BD31-BCD8438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20AF24-B7F6-4721-A040-6ED3F905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E147E-EFDC-4E35-A259-3A986E36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7DB0-274A-479A-836E-54CE834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5DA7A-4B42-4100-998F-3ABA5EF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E97BA-18D1-440B-979C-F11EA8F1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9BAA3-EE8E-424D-B15F-35A8BB4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7CE47-B380-41A2-84B4-6F04DF7E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4F14D-51DA-4850-939D-8722EF6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90F2A-489B-4FBC-8D83-70559FE7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BF247-C3F5-4BF6-B826-C7335685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00E64-4A9F-4DE5-951B-3606DE7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C165A-041E-482D-A6C2-6144662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C8E86-8694-457D-9E6D-30CC19CF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AF5-9157-4A2F-9002-2862DF3D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E5445-6EE1-4506-BD3E-160012E0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E13F8-A91F-4BA4-8F8E-C71FA8E5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2FBAB-A909-4657-AEFE-85D4129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85672-E816-413F-9C07-4F5A0D0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FEC11-4834-4829-91BB-A2258116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E2770-9C20-4F6E-AD49-9AA419B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23DB0-B248-484D-B790-09B641D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EF709-E7CE-43AC-AF2E-9A0CD9E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030D96-FBA2-42BA-B527-97E2622A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E4DFD-E4F1-469A-8F23-92C28FE3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1B80-74D1-4FAF-BC51-00535044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274DF-B9FA-4AC1-B1F7-792F4ABD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DC068-9231-4E4F-A05B-06C792DD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B4852-59BD-4DB4-A37F-E470BAC2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679FB-7138-4264-8B5F-6BA33418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4F092-4DD3-4EDF-9333-6E785CFC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F6416-E736-4731-B9BA-725E063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9D902-B989-4EBF-8A07-822F49C0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24B73-CC4D-45DE-B5E1-81300926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2A691-8818-4D39-9EB9-D08242B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ADA28-F253-4BC3-A2F9-C122F62A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5552-4F69-41BA-85C2-8F96053E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152D1-29DC-4B91-985C-3A48DF2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5C25E-362C-4423-A850-B2B53CA8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D6B59-A21B-4CF4-825A-993C4D9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36BDA9-9A49-428A-8673-D3B36F9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2AEED-6D29-4445-A97D-65D34F7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90044-AE4D-4684-A596-FA97743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2E3151-8641-4D07-9873-4EA428AA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9C447-0229-4879-9203-E70CC8D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033B0-B3D0-4D0D-8C89-C750197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AB286-B757-422D-9446-8506365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B1DC-7971-4A7D-B1C1-DF4E56B7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9F83B-752C-41A5-8B67-B624D6CF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05B20-5E99-4839-998E-89D49F56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6F44F-425D-44F6-BDEB-A4D190C4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B912-EAD4-4734-B223-D932A68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1E4A-833E-46FE-91E8-5080D0B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CC6D-72D9-437B-9AC1-3E939C8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32ED4-1E23-491C-8F88-E21CD966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2A5-CFF8-45C6-96CD-2F9BD94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3B46-3295-43D8-B79A-C94FA50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B2A6-FCF7-4633-8F4A-439CE44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A124-E597-4E64-A08C-F3B49F8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5EE4-DCBD-46F1-BE51-A4BEF023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9136F-5A01-4CA1-9E47-1768E8D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BA71-0E5C-4EC9-A4CB-7FA8EF15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9909-C834-4470-8ACE-47A0F804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589D-7751-4EA0-8FE6-9334FA83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E67D-96CF-4C27-B204-2F75BB0C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AD02-B50A-4CE0-843C-94E01AD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E6F-BEF8-4D52-8EC6-5A848588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BD48-935B-446B-9B8E-1882BB7E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57848-C442-40E3-B02A-73383029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7E8C-4637-4E0D-BC8D-D643BE6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CD79-70B5-40E0-9C12-0B26724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138A-5A46-416B-B883-8A9DAD4B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B6AB-BA8E-4780-A7CF-01BEFA8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F1D4B-1910-487F-B4CB-B2A2BBB3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DD9B-ABE9-4A59-8880-C9CAF69F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A394-71FC-44C0-8AB5-32DB788F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C4C7D-EFED-44E8-A6CB-C0B11DA0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B87-7784-424F-A6C3-9DCC3BC1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F3B0-C933-4AD7-971D-91F36F0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935D8-6F98-4918-B802-EFC5757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B08C-44A7-4918-A057-21109CC1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88E1-99B5-4515-85C2-FABABFE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9C13-8765-4B3E-8488-3E5ACFB3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FFAE0-8E89-47F1-A4C1-5E2A503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70C5D-62A9-4BA6-A315-83B89D0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AEE7-9CAC-460B-8C53-421C40C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CE29-D5AC-4500-9334-640D1BA5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8012-F8A9-4324-B0FA-ABF14FC6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787-6D55-4923-8C94-D6A29F2E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8A4C-B238-4100-8836-93D0306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C00D-85DD-4725-99F4-F2E3843E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559E-C86B-4908-B452-E77C4815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9120-6F57-4E2A-82F2-C2FDC54E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24B3F-8719-4EB6-BCF2-42EA5BA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4E0C-4825-4CAC-90F3-6F19D016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BAE2-B3C5-4822-A599-F40C029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3573-18C8-4C51-ADDA-D25540E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6584-5AF9-4156-8450-437D9AA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3C731-8C39-441C-AA4A-4225705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36C-87E1-4700-9EFB-53966C8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EAB2-24FD-4C96-B8F1-F775B9A7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EBF9-741D-49C1-97F7-4F6C6B16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EFBF0-55B9-4638-B0B5-C666D1CB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CAC3-8D1F-486E-B3E6-FB2C9DB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6608D-1FCC-462D-A823-749557A4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2EF76-A44C-4D02-97DB-6153393E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AF24-8D64-4F6A-85D3-77B3743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C32B-03DB-49D3-9F75-52C32DF5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6FBB3-E1E3-4FB6-8F0B-361C960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4E83-5EC9-4349-B493-A644D7A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7AE-DEB3-42DA-BB3C-0A04E0F1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3BB8-DB22-4000-BB19-F7DCB31B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46FF-199B-4288-84C7-ABF32281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C48F5-C4C4-41EF-9C05-46591834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4E65-F376-41E2-B8CF-F8AA08B4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D736-DA68-4A19-BE18-F75EFE7A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A4567-23DC-40B2-AEE0-4F7CEFFD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C52D2-9443-475C-B1A3-D84A3EA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0244-9F60-4E26-BDEA-9FF800D3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E1933-66EF-4E06-B28F-CDE701D0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101C2-6701-496C-9BA1-D5C05BE8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F2C-A03B-4598-8609-845D028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F488-F91F-42FC-9497-556F5DE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A578-DA46-4F31-8C89-B888A1F4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0AF03-372A-445A-8B58-9E5085D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F854-1CDA-41B6-817C-385CDEB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2AFF-F4D5-4A78-8D34-20EFBD1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53271-2476-4A37-A331-9D66946D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755F1-9461-44B9-99A4-640B6630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F81BF-75DF-4081-8535-922FA448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FE38-BC6B-4973-B6F3-C9110631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11B9A-7B11-4AA4-93FF-6B9A01E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44E0-A077-43DA-AC47-7F991E3C33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572-6EF6-4D98-BC49-F812309CE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28E5-5521-46F0-B278-33649C32C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179E-D5C4-45A3-86A6-B38B0BF913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0DF-CB67-42AE-B280-32E1658F87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FD27-38D8-4B2C-BACE-4F9F63E5C0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5D24-50B0-47B4-BD1B-9487C8B4E7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D811-B3E7-46DD-AA16-76B673B8F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6A8-C735-413C-A403-50EE57F9A5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FE55-6574-4B1D-9679-D3FC27605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6E9E-F093-452C-9C36-F701F7EDD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BA49-9F50-4580-9744-46EA90C21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AE6A-5B1A-44FD-96D4-28672BC1A6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CA00-8352-4C9D-858F-6B2DFFDE2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18B8-2C1D-4DD5-9724-0606FAC74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868-5346-4F77-874E-643B62246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6F28-F131-4660-9BA7-A4F6DC6AB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5B4E-FC27-47CB-B0D6-16E05380EB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65E2-C97A-414D-B266-7A913C98D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143F-126F-44E0-88C9-6FABC89D6D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620-6C93-4785-B9E8-47B3441DF6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01A-E996-408D-B348-7E361C65E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8A5-6F3D-454C-9F67-3DA6C1C20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F67F-A3F2-4A2B-B643-7A9A4A682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109-26B9-48CB-A08A-CBCB23866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8980-D5A8-453C-9B39-F2FDC64F19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1C80-DD75-4E45-9941-45456FF3EE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BEAB-25EB-4099-854E-E572FA595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D91D-2792-4FAF-8F71-60AC626C6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077-EA71-46A7-9A5E-3B8E820A1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74D-E5BD-4684-9F50-CBE837EB32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24F-BC9A-402B-AFC8-3C117862D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0C0-B339-46E6-87F7-ECBB5CF37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22BB-59F3-4587-9E4F-42D5824972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3FE3-299B-4675-AD8E-B35A3C465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3F7-7F2E-4A79-B718-BB3E242CC5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80C-CF50-4920-ACAC-D6E2C992F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D281-6F39-4303-8A9A-FDBCEDE27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0BB-8474-4EEF-B23B-892A4355F1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D2A-ED48-407A-80E9-F9009D11C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38160" y="2771640"/>
            <a:ext cx="726768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30" descr=""/>
          <p:cNvPicPr/>
          <p:nvPr/>
        </p:nvPicPr>
        <p:blipFill>
          <a:blip r:embed="rId1"/>
          <a:stretch/>
        </p:blipFill>
        <p:spPr>
          <a:xfrm>
            <a:off x="166680" y="1076400"/>
            <a:ext cx="8810640" cy="4705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35280" y="30592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65000" y="3745080"/>
            <a:ext cx="17290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37000" y="37450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00720" y="374508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5640" y="4095720"/>
            <a:ext cx="3311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202280" y="4797360"/>
            <a:ext cx="17287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5516640"/>
            <a:ext cx="172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123840" y="271440"/>
            <a:ext cx="8896320" cy="6315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979640" y="255600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940360" y="255600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348000" y="291456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755640" y="359244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1692360" y="5580000"/>
            <a:ext cx="9349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2556000" y="5940360"/>
            <a:ext cx="57600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3635280" y="6284880"/>
            <a:ext cx="1008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5724360" y="6280200"/>
            <a:ext cx="2448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0:55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